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7.gif" ContentType="image/gif"/>
  <Override PartName="/ppt/media/image26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B802-39DA-4F60-82B1-2412C1C33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4844-0379-46F7-897F-69F3D6A832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5027-7E59-4F8D-9BD5-A3D0FB3B7C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2C8-5764-40B5-AC13-BE82578E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289-5E07-4CEB-869C-274EF15B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CE3-F64D-4192-87E6-A298B875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C68-B34C-4114-892F-64BC937B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F2A-11D0-480A-B2D9-76E05275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3D2-41FF-4D6D-B021-EE38C89F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56D-0785-4DDA-B9F1-0A8A3B8B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617-04EB-4B5E-9E8A-E9EC2E3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FC6-7689-484E-95A6-7F6B5AC5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1FD-BE32-47A2-AD9F-A5B04406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1AF-A0B9-4D87-9570-53F4DBF4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24E-40F1-4DFB-9E7B-7223A324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0E45-E038-48F0-808B-AB55761FF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" Target="slide3.xml"/><Relationship Id="rId4" Type="http://schemas.openxmlformats.org/officeDocument/2006/relationships/image" Target="../media/image9.pn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838080"/>
            <a:ext cx="6781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«РАЗВИТИЕ ДЕТСКОЙ ОДАРЕННОСТИ ЧЕРЕЗ ВНЕУРОЧНУЮ ДЕЯТЕЛЬНОСТЬ В НАЧАЛЬНОЙ ШКОЛ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БОУ СОШ №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м. Г. И. Свердл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. Павловской Арнаут Л.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ая соединительная линия 25"/>
          <p:cNvSpPr/>
          <p:nvPr/>
        </p:nvSpPr>
        <p:spPr>
          <a:xfrm flipV="1">
            <a:off x="7143840" y="2571840"/>
            <a:ext cx="1440" cy="714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4"/>
          <p:cNvSpPr/>
          <p:nvPr/>
        </p:nvSpPr>
        <p:spPr>
          <a:xfrm flipV="1">
            <a:off x="5428440" y="2571840"/>
            <a:ext cx="1800" cy="714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3"/>
          <p:cNvSpPr/>
          <p:nvPr/>
        </p:nvSpPr>
        <p:spPr>
          <a:xfrm flipV="1">
            <a:off x="3714840" y="2571840"/>
            <a:ext cx="1440" cy="714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5"/>
          <p:cNvSpPr/>
          <p:nvPr/>
        </p:nvSpPr>
        <p:spPr>
          <a:xfrm flipV="1">
            <a:off x="1999440" y="2571840"/>
            <a:ext cx="1800" cy="714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прямая веревка.gif"/>
          <p:cNvPicPr/>
          <p:nvPr/>
        </p:nvPicPr>
        <p:blipFill>
          <a:blip r:embed="rId1"/>
          <a:stretch/>
        </p:blipFill>
        <p:spPr>
          <a:xfrm>
            <a:off x="214200" y="3214800"/>
            <a:ext cx="4429080" cy="285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прямая веревка.gif"/>
          <p:cNvPicPr/>
          <p:nvPr/>
        </p:nvPicPr>
        <p:blipFill>
          <a:blip r:embed="rId2"/>
          <a:stretch/>
        </p:blipFill>
        <p:spPr>
          <a:xfrm>
            <a:off x="4357800" y="3214800"/>
            <a:ext cx="46432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6"/>
          <p:cNvSpPr/>
          <p:nvPr/>
        </p:nvSpPr>
        <p:spPr>
          <a:xfrm flipV="1">
            <a:off x="283320" y="1928880"/>
            <a:ext cx="1800" cy="135720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8"/>
          <p:cNvSpPr/>
          <p:nvPr/>
        </p:nvSpPr>
        <p:spPr>
          <a:xfrm flipV="1">
            <a:off x="8857440" y="1928880"/>
            <a:ext cx="1800" cy="135720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10"/>
          <p:cNvCxnSpPr/>
          <p:nvPr/>
        </p:nvCxnSpPr>
        <p:spPr>
          <a:xfrm>
            <a:off x="285840" y="2356920"/>
            <a:ext cx="8573040" cy="25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lg" type="stealth" w="lg"/>
            <a:tailEnd len="lg" type="stealth" w="lg"/>
          </a:ln>
        </p:spPr>
      </p:cxnSp>
      <p:sp>
        <p:nvSpPr>
          <p:cNvPr id="95" name="TextBox 11"/>
          <p:cNvSpPr/>
          <p:nvPr/>
        </p:nvSpPr>
        <p:spPr>
          <a:xfrm>
            <a:off x="3929040" y="18572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3" descr="ножницы.gif"/>
          <p:cNvPicPr/>
          <p:nvPr/>
        </p:nvPicPr>
        <p:blipFill>
          <a:blip r:embed="rId3"/>
          <a:stretch/>
        </p:blipFill>
        <p:spPr>
          <a:xfrm rot="18554400">
            <a:off x="4170240" y="4169880"/>
            <a:ext cx="1738440" cy="2738520"/>
          </a:xfrm>
          <a:prstGeom prst="rect">
            <a:avLst/>
          </a:prstGeom>
          <a:ln w="0">
            <a:noFill/>
          </a:ln>
        </p:spPr>
      </p:pic>
      <p:cxnSp>
        <p:nvCxnSpPr>
          <p:cNvPr id="97" name="Прямая со стрелкой 16"/>
          <p:cNvCxnSpPr/>
          <p:nvPr/>
        </p:nvCxnSpPr>
        <p:spPr>
          <a:xfrm>
            <a:off x="285840" y="2857680"/>
            <a:ext cx="1715040" cy="216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lg" type="stealth" w="lg"/>
            <a:tailEnd len="lg" type="stealth" w="lg"/>
          </a:ln>
        </p:spPr>
      </p:cxnSp>
      <p:sp>
        <p:nvSpPr>
          <p:cNvPr id="98" name="TextBox 19"/>
          <p:cNvSpPr/>
          <p:nvPr/>
        </p:nvSpPr>
        <p:spPr>
          <a:xfrm>
            <a:off x="642960" y="234468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2571840" y="557208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сего 4 разр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колько раз нужно отрезать, чтобы верёвку длиной в 10 см, разделить на части по 2 см кажд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-0.2401 -0.2132 E">
                                      <p:cBhvr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лимон.gif"/>
          <p:cNvPicPr/>
          <p:nvPr/>
        </p:nvPicPr>
        <p:blipFill>
          <a:blip r:embed="rId1"/>
          <a:stretch/>
        </p:blipFill>
        <p:spPr>
          <a:xfrm>
            <a:off x="714240" y="1928880"/>
            <a:ext cx="2357640" cy="1665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лимоны.gif"/>
          <p:cNvPicPr/>
          <p:nvPr/>
        </p:nvPicPr>
        <p:blipFill>
          <a:blip r:embed="rId2"/>
          <a:stretch/>
        </p:blipFill>
        <p:spPr>
          <a:xfrm>
            <a:off x="71280" y="3679920"/>
            <a:ext cx="3429000" cy="3463920"/>
          </a:xfrm>
          <a:prstGeom prst="rect">
            <a:avLst/>
          </a:prstGeom>
          <a:ln w="0">
            <a:noFill/>
          </a:ln>
        </p:spPr>
      </p:pic>
      <p:sp>
        <p:nvSpPr>
          <p:cNvPr id="103" name="Равно 4"/>
          <p:cNvSpPr/>
          <p:nvPr/>
        </p:nvSpPr>
        <p:spPr>
          <a:xfrm>
            <a:off x="3143160" y="228600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235800 h 914400"/>
              <a:gd name="textAreaBottom" fmla="*/ 67860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235869"/>
                </a:moveTo>
                <a:lnTo>
                  <a:pt x="793196" y="235869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678531"/>
                </a:lnTo>
                <a:lnTo>
                  <a:pt x="121204" y="67853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286160" y="2286000"/>
            <a:ext cx="4572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Полтора руб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 6"/>
          <p:cNvSpPr/>
          <p:nvPr/>
        </p:nvSpPr>
        <p:spPr>
          <a:xfrm>
            <a:off x="3143160" y="492912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247680 h 914400"/>
              <a:gd name="textAreaBottom" fmla="*/ 66672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247738"/>
                </a:moveTo>
                <a:lnTo>
                  <a:pt x="793196" y="247738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666662"/>
                </a:lnTo>
                <a:lnTo>
                  <a:pt x="121204" y="66666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143680" y="4500720"/>
            <a:ext cx="121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071960" y="4929120"/>
            <a:ext cx="5072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есять руб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лтора лимона стоят полтора рубля. Сколько стоят десять лимон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User\Desktop\hello_html_m40712849.jpg"/>
          <p:cNvPicPr/>
          <p:nvPr/>
        </p:nvPicPr>
        <p:blipFill>
          <a:blip r:embed="rId1"/>
          <a:stretch/>
        </p:blipFill>
        <p:spPr>
          <a:xfrm>
            <a:off x="609480" y="304920"/>
            <a:ext cx="8534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А.Погорельский «Чёрная курица, или подземные жите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…отворилась боковая дверь… и вошло множество маленьких людей, ростом не более как с пол-арши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/2 аршина = 35см 5мм ( 71 см :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П.П.Ершов «Конёк Горбун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Да игрушечку-кон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стом только в три вер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 спине с двумя гор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а с аршинными ушами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вершка =13см 2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1 вершок 4 см 4 мм  х 3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аршин = 71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3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оя живет выше Пети, но ниже Лены, а Марина живет ниже Пети. На каком этаже четырёхэтажного дома живёт каждый из н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27"/>
          <p:cNvCxnSpPr/>
          <p:nvPr/>
        </p:nvCxnSpPr>
        <p:spPr>
          <a:xfrm flipH="1">
            <a:off x="2714400" y="3642120"/>
            <a:ext cx="4143600" cy="5007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grpSp>
        <p:nvGrpSpPr>
          <p:cNvPr id="115" name="Группа 17"/>
          <p:cNvGrpSpPr/>
          <p:nvPr/>
        </p:nvGrpSpPr>
        <p:grpSpPr>
          <a:xfrm>
            <a:off x="-71280" y="2500200"/>
            <a:ext cx="3681360" cy="5199120"/>
            <a:chOff x="-71280" y="2500200"/>
            <a:chExt cx="3681360" cy="5199120"/>
          </a:xfrm>
        </p:grpSpPr>
        <p:pic>
          <p:nvPicPr>
            <p:cNvPr id="116" name="Рисунок 3" descr="дом.gif"/>
            <p:cNvPicPr/>
            <p:nvPr/>
          </p:nvPicPr>
          <p:blipFill>
            <a:blip r:embed="rId1"/>
            <a:stretch/>
          </p:blipFill>
          <p:spPr>
            <a:xfrm>
              <a:off x="0" y="2500200"/>
              <a:ext cx="36100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Равнобедренный треугольник 4"/>
            <p:cNvSpPr/>
            <p:nvPr/>
          </p:nvSpPr>
          <p:spPr>
            <a:xfrm>
              <a:off x="-71280" y="2642760"/>
              <a:ext cx="2928960" cy="35712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14"/>
          <p:cNvGrpSpPr/>
          <p:nvPr/>
        </p:nvGrpSpPr>
        <p:grpSpPr>
          <a:xfrm>
            <a:off x="5929200" y="4572000"/>
            <a:ext cx="1000080" cy="2139840"/>
            <a:chOff x="5929200" y="4572000"/>
            <a:chExt cx="1000080" cy="2139840"/>
          </a:xfrm>
        </p:grpSpPr>
        <p:pic>
          <p:nvPicPr>
            <p:cNvPr id="119" name="Рисунок 7" descr="девочка4.jpg"/>
            <p:cNvPicPr/>
            <p:nvPr/>
          </p:nvPicPr>
          <p:blipFill>
            <a:blip r:embed="rId2"/>
            <a:stretch/>
          </p:blipFill>
          <p:spPr>
            <a:xfrm>
              <a:off x="5929200" y="4572000"/>
              <a:ext cx="970920" cy="17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10"/>
            <p:cNvSpPr/>
            <p:nvPr/>
          </p:nvSpPr>
          <p:spPr>
            <a:xfrm>
              <a:off x="6000480" y="6284880"/>
              <a:ext cx="9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Ле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15"/>
          <p:cNvGrpSpPr/>
          <p:nvPr/>
        </p:nvGrpSpPr>
        <p:grpSpPr>
          <a:xfrm>
            <a:off x="6786360" y="2500200"/>
            <a:ext cx="1071720" cy="2284560"/>
            <a:chOff x="6786360" y="2500200"/>
            <a:chExt cx="1071720" cy="2284560"/>
          </a:xfrm>
        </p:grpSpPr>
        <p:pic>
          <p:nvPicPr>
            <p:cNvPr id="122" name="Рисунок 6" descr="Мальчик2.gif"/>
            <p:cNvPicPr/>
            <p:nvPr/>
          </p:nvPicPr>
          <p:blipFill>
            <a:blip r:embed="rId3"/>
            <a:stretch/>
          </p:blipFill>
          <p:spPr>
            <a:xfrm flipH="1">
              <a:off x="6786360" y="2500200"/>
              <a:ext cx="981000" cy="193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11"/>
            <p:cNvSpPr/>
            <p:nvPr/>
          </p:nvSpPr>
          <p:spPr>
            <a:xfrm>
              <a:off x="6929280" y="4357800"/>
              <a:ext cx="9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Пет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Группа 16"/>
          <p:cNvGrpSpPr/>
          <p:nvPr/>
        </p:nvGrpSpPr>
        <p:grpSpPr>
          <a:xfrm>
            <a:off x="7970760" y="3143160"/>
            <a:ext cx="1173240" cy="2284560"/>
            <a:chOff x="7970760" y="3143160"/>
            <a:chExt cx="1173240" cy="2284560"/>
          </a:xfrm>
        </p:grpSpPr>
        <p:pic>
          <p:nvPicPr>
            <p:cNvPr id="125" name="Рисунок 5" descr="девочка1.jpg"/>
            <p:cNvPicPr/>
            <p:nvPr/>
          </p:nvPicPr>
          <p:blipFill>
            <a:blip r:embed="rId4"/>
            <a:stretch/>
          </p:blipFill>
          <p:spPr>
            <a:xfrm>
              <a:off x="7970760" y="3143160"/>
              <a:ext cx="1173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12"/>
            <p:cNvSpPr/>
            <p:nvPr/>
          </p:nvSpPr>
          <p:spPr>
            <a:xfrm>
              <a:off x="8215200" y="5000760"/>
              <a:ext cx="714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Зо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13"/>
          <p:cNvGrpSpPr/>
          <p:nvPr/>
        </p:nvGrpSpPr>
        <p:grpSpPr>
          <a:xfrm>
            <a:off x="4643280" y="2571840"/>
            <a:ext cx="1357560" cy="2427120"/>
            <a:chOff x="4643280" y="2571840"/>
            <a:chExt cx="1357560" cy="2427120"/>
          </a:xfrm>
        </p:grpSpPr>
        <p:pic>
          <p:nvPicPr>
            <p:cNvPr id="128" name="Рисунок 8" descr="девочка3.jpg"/>
            <p:cNvPicPr/>
            <p:nvPr/>
          </p:nvPicPr>
          <p:blipFill>
            <a:blip r:embed="rId5"/>
            <a:stretch/>
          </p:blipFill>
          <p:spPr>
            <a:xfrm>
              <a:off x="4647960" y="2571840"/>
              <a:ext cx="1235520" cy="20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9"/>
            <p:cNvSpPr/>
            <p:nvPr/>
          </p:nvSpPr>
          <p:spPr>
            <a:xfrm>
              <a:off x="4643280" y="4572000"/>
              <a:ext cx="1357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Мар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" name="Прямая со стрелкой 20"/>
          <p:cNvCxnSpPr/>
          <p:nvPr/>
        </p:nvCxnSpPr>
        <p:spPr>
          <a:xfrm flipH="1" flipV="1">
            <a:off x="2714400" y="5714640"/>
            <a:ext cx="1072080" cy="21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Прямая со стрелкой 22"/>
          <p:cNvCxnSpPr/>
          <p:nvPr/>
        </p:nvCxnSpPr>
        <p:spPr>
          <a:xfrm flipH="1">
            <a:off x="2642400" y="2927880"/>
            <a:ext cx="5072760" cy="42948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32" name="Прямая со стрелкой 24"/>
          <p:cNvCxnSpPr/>
          <p:nvPr/>
        </p:nvCxnSpPr>
        <p:spPr>
          <a:xfrm flipH="1">
            <a:off x="2642760" y="4214880"/>
            <a:ext cx="2858400" cy="7149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3" name="Прямая соединительная линия 26"/>
          <p:cNvSpPr/>
          <p:nvPr/>
        </p:nvSpPr>
        <p:spPr>
          <a:xfrm>
            <a:off x="1523880" y="533520"/>
            <a:ext cx="4648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8"/>
          <p:cNvSpPr/>
          <p:nvPr/>
        </p:nvSpPr>
        <p:spPr>
          <a:xfrm>
            <a:off x="304920" y="1219320"/>
            <a:ext cx="12952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0"/>
          <p:cNvSpPr/>
          <p:nvPr/>
        </p:nvSpPr>
        <p:spPr>
          <a:xfrm>
            <a:off x="1981080" y="1143000"/>
            <a:ext cx="58676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35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3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оя живет выше Пети, но ниже Лены, а Марина живет ниже Пети. На каком этаже четырёхэтажного дома живёт каждый из н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27"/>
          <p:cNvCxnSpPr/>
          <p:nvPr/>
        </p:nvCxnSpPr>
        <p:spPr>
          <a:xfrm flipH="1">
            <a:off x="2714400" y="3642120"/>
            <a:ext cx="4143600" cy="5007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grpSp>
        <p:nvGrpSpPr>
          <p:cNvPr id="139" name="Группа 17"/>
          <p:cNvGrpSpPr/>
          <p:nvPr/>
        </p:nvGrpSpPr>
        <p:grpSpPr>
          <a:xfrm>
            <a:off x="-71280" y="2500200"/>
            <a:ext cx="3681360" cy="5199120"/>
            <a:chOff x="-71280" y="2500200"/>
            <a:chExt cx="3681360" cy="5199120"/>
          </a:xfrm>
        </p:grpSpPr>
        <p:pic>
          <p:nvPicPr>
            <p:cNvPr id="140" name="Рисунок 3" descr="дом.gif"/>
            <p:cNvPicPr/>
            <p:nvPr/>
          </p:nvPicPr>
          <p:blipFill>
            <a:blip r:embed="rId1"/>
            <a:stretch/>
          </p:blipFill>
          <p:spPr>
            <a:xfrm>
              <a:off x="0" y="2500200"/>
              <a:ext cx="36100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Равнобедренный треугольник 4"/>
            <p:cNvSpPr/>
            <p:nvPr/>
          </p:nvSpPr>
          <p:spPr>
            <a:xfrm>
              <a:off x="-71280" y="2642760"/>
              <a:ext cx="2928960" cy="35712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4"/>
          <p:cNvGrpSpPr/>
          <p:nvPr/>
        </p:nvGrpSpPr>
        <p:grpSpPr>
          <a:xfrm>
            <a:off x="5929200" y="4572000"/>
            <a:ext cx="1000080" cy="2139840"/>
            <a:chOff x="5929200" y="4572000"/>
            <a:chExt cx="1000080" cy="2139840"/>
          </a:xfrm>
        </p:grpSpPr>
        <p:pic>
          <p:nvPicPr>
            <p:cNvPr id="143" name="Рисунок 7" descr="девочка4.jpg"/>
            <p:cNvPicPr/>
            <p:nvPr/>
          </p:nvPicPr>
          <p:blipFill>
            <a:blip r:embed="rId2"/>
            <a:stretch/>
          </p:blipFill>
          <p:spPr>
            <a:xfrm>
              <a:off x="5929200" y="4572000"/>
              <a:ext cx="970920" cy="17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0"/>
            <p:cNvSpPr/>
            <p:nvPr/>
          </p:nvSpPr>
          <p:spPr>
            <a:xfrm>
              <a:off x="6000480" y="6284880"/>
              <a:ext cx="9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Ле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15"/>
          <p:cNvGrpSpPr/>
          <p:nvPr/>
        </p:nvGrpSpPr>
        <p:grpSpPr>
          <a:xfrm>
            <a:off x="6786360" y="2500200"/>
            <a:ext cx="1071720" cy="2284560"/>
            <a:chOff x="6786360" y="2500200"/>
            <a:chExt cx="1071720" cy="2284560"/>
          </a:xfrm>
        </p:grpSpPr>
        <p:pic>
          <p:nvPicPr>
            <p:cNvPr id="146" name="Рисунок 6" descr="Мальчик2.gif"/>
            <p:cNvPicPr/>
            <p:nvPr/>
          </p:nvPicPr>
          <p:blipFill>
            <a:blip r:embed="rId3"/>
            <a:stretch/>
          </p:blipFill>
          <p:spPr>
            <a:xfrm flipH="1">
              <a:off x="6786360" y="2500200"/>
              <a:ext cx="981000" cy="193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11"/>
            <p:cNvSpPr/>
            <p:nvPr/>
          </p:nvSpPr>
          <p:spPr>
            <a:xfrm>
              <a:off x="6929280" y="4357800"/>
              <a:ext cx="9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Пет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Группа 16"/>
          <p:cNvGrpSpPr/>
          <p:nvPr/>
        </p:nvGrpSpPr>
        <p:grpSpPr>
          <a:xfrm>
            <a:off x="7970760" y="3143160"/>
            <a:ext cx="1173240" cy="2284560"/>
            <a:chOff x="7970760" y="3143160"/>
            <a:chExt cx="1173240" cy="2284560"/>
          </a:xfrm>
        </p:grpSpPr>
        <p:pic>
          <p:nvPicPr>
            <p:cNvPr id="149" name="Рисунок 5" descr="девочка1.jpg"/>
            <p:cNvPicPr/>
            <p:nvPr/>
          </p:nvPicPr>
          <p:blipFill>
            <a:blip r:embed="rId4"/>
            <a:stretch/>
          </p:blipFill>
          <p:spPr>
            <a:xfrm>
              <a:off x="7970760" y="3143160"/>
              <a:ext cx="1173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12"/>
            <p:cNvSpPr/>
            <p:nvPr/>
          </p:nvSpPr>
          <p:spPr>
            <a:xfrm>
              <a:off x="8215200" y="5000760"/>
              <a:ext cx="714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Зо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3"/>
          <p:cNvGrpSpPr/>
          <p:nvPr/>
        </p:nvGrpSpPr>
        <p:grpSpPr>
          <a:xfrm>
            <a:off x="4643280" y="2571840"/>
            <a:ext cx="1357560" cy="2427120"/>
            <a:chOff x="4643280" y="2571840"/>
            <a:chExt cx="1357560" cy="2427120"/>
          </a:xfrm>
        </p:grpSpPr>
        <p:pic>
          <p:nvPicPr>
            <p:cNvPr id="152" name="Рисунок 8" descr="девочка3.jpg"/>
            <p:cNvPicPr/>
            <p:nvPr/>
          </p:nvPicPr>
          <p:blipFill>
            <a:blip r:embed="rId5"/>
            <a:stretch/>
          </p:blipFill>
          <p:spPr>
            <a:xfrm>
              <a:off x="4647960" y="2571840"/>
              <a:ext cx="1235520" cy="20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9"/>
            <p:cNvSpPr/>
            <p:nvPr/>
          </p:nvSpPr>
          <p:spPr>
            <a:xfrm>
              <a:off x="4643280" y="4572000"/>
              <a:ext cx="1357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Мар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" name="Прямая со стрелкой 20"/>
          <p:cNvCxnSpPr/>
          <p:nvPr/>
        </p:nvCxnSpPr>
        <p:spPr>
          <a:xfrm flipH="1" flipV="1">
            <a:off x="2714400" y="5714640"/>
            <a:ext cx="1072080" cy="21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5" name="Прямая со стрелкой 22"/>
          <p:cNvCxnSpPr/>
          <p:nvPr/>
        </p:nvCxnSpPr>
        <p:spPr>
          <a:xfrm flipH="1">
            <a:off x="2642400" y="2927880"/>
            <a:ext cx="5072760" cy="42948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56" name="Прямая со стрелкой 24"/>
          <p:cNvCxnSpPr/>
          <p:nvPr/>
        </p:nvCxnSpPr>
        <p:spPr>
          <a:xfrm flipH="1">
            <a:off x="2642760" y="4214880"/>
            <a:ext cx="2858400" cy="7149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61795E-006 L -0.08975 0.27313 E">
                                      <p:cBhvr>
                                        <p:cTn id="19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4311E-006 L -0.15902 0.17854 E">
                                      <p:cBhvr>
                                        <p:cTn id="20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58834E-006 L 0.20643 -0.38553 E">
                                      <p:cBhvr>
                                        <p:cTn id="20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3164E-006 L -0.14444 0.00093 E">
                                      <p:cBhvr>
                                        <p:cTn id="20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бегуны.gif"/>
          <p:cNvPicPr/>
          <p:nvPr/>
        </p:nvPicPr>
        <p:blipFill>
          <a:blip r:embed="rId1"/>
          <a:stretch/>
        </p:blipFill>
        <p:spPr>
          <a:xfrm>
            <a:off x="714240" y="2714760"/>
            <a:ext cx="7655040" cy="3000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4929120" y="5659560"/>
            <a:ext cx="16430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а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714240" y="5643720"/>
            <a:ext cx="17859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7000920" y="5643720"/>
            <a:ext cx="16430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нд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2786040" y="5643720"/>
            <a:ext cx="17859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и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Эдик, Вася, Андрей и Миша заняли первые четыре ме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кроссе. Эдик - ни первое и ни треть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ася - второе, Андрей не проиграл Мише. Какие места  заняли мальчик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2"/>
          <p:cNvSpPr/>
          <p:nvPr/>
        </p:nvSpPr>
        <p:spPr>
          <a:xfrm>
            <a:off x="4876920" y="1143000"/>
            <a:ext cx="2971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3"/>
          <p:cNvSpPr/>
          <p:nvPr/>
        </p:nvSpPr>
        <p:spPr>
          <a:xfrm>
            <a:off x="2286000" y="1752480"/>
            <a:ext cx="64008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5"/>
          <p:cNvSpPr/>
          <p:nvPr/>
        </p:nvSpPr>
        <p:spPr>
          <a:xfrm>
            <a:off x="533520" y="2286000"/>
            <a:ext cx="3047760" cy="0"/>
          </a:xfrm>
          <a:prstGeom prst="line">
            <a:avLst/>
          </a:prstGeom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8"/>
          <p:cNvSpPr/>
          <p:nvPr/>
        </p:nvSpPr>
        <p:spPr>
          <a:xfrm>
            <a:off x="3809880" y="2286000"/>
            <a:ext cx="46483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20"/>
          <p:cNvSpPr/>
          <p:nvPr/>
        </p:nvSpPr>
        <p:spPr>
          <a:xfrm>
            <a:off x="228600" y="2895480"/>
            <a:ext cx="13716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«Без шлифовки и драгоценный камень не блести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(Японская послови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ab490b13fb15a8ea5d00e64a06fc04ca"/>
          <p:cNvPicPr/>
          <p:nvPr/>
        </p:nvPicPr>
        <p:blipFill>
          <a:blip r:embed="rId1"/>
          <a:stretch/>
        </p:blipFill>
        <p:spPr>
          <a:xfrm>
            <a:off x="2548080" y="3886200"/>
            <a:ext cx="3624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проведение кружковых занятий с учетом дифференциации материала для разных групп обучаю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проведение дополнительных занятий и индивидуальных консульта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включение детей в исследовательскую и проектную деятельность, выполняемую под руководством у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подготовка к олимпиадам, конкурсам, виктори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итересовать – выявить – научить – развив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"/>
          <p:cNvPicPr/>
          <p:nvPr/>
        </p:nvPicPr>
        <p:blipFill>
          <a:blip r:embed="rId1"/>
          <a:srcRect l="2398" t="34568" r="6972" b="12998"/>
          <a:stretch/>
        </p:blipFill>
        <p:spPr>
          <a:xfrm>
            <a:off x="2209680" y="3124080"/>
            <a:ext cx="643428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rcRect l="4684" t="45098" r="4140" b="2469"/>
          <a:stretch/>
        </p:blipFill>
        <p:spPr>
          <a:xfrm>
            <a:off x="838080" y="152280"/>
            <a:ext cx="731520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"/>
          <p:cNvPicPr/>
          <p:nvPr/>
        </p:nvPicPr>
        <p:blipFill>
          <a:blip r:embed="rId3"/>
          <a:srcRect l="1296" t="44011" r="2179" b="36506"/>
          <a:stretch/>
        </p:blipFill>
        <p:spPr>
          <a:xfrm>
            <a:off x="685800" y="5702400"/>
            <a:ext cx="617220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rebus-transport-006"/>
          <p:cNvPicPr/>
          <p:nvPr/>
        </p:nvPicPr>
        <p:blipFill>
          <a:blip r:embed="rId1"/>
          <a:stretch/>
        </p:blipFill>
        <p:spPr>
          <a:xfrm>
            <a:off x="755640" y="620640"/>
            <a:ext cx="7777080" cy="5151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" name="AutoShape 5"/>
          <p:cNvSpPr/>
          <p:nvPr/>
        </p:nvSpPr>
        <p:spPr>
          <a:xfrm>
            <a:off x="2843280" y="5877000"/>
            <a:ext cx="345600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Р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ам"/>
          <p:cNvPicPr/>
          <p:nvPr/>
        </p:nvPicPr>
        <p:blipFill>
          <a:blip r:embed="rId1"/>
          <a:stretch/>
        </p:blipFill>
        <p:spPr>
          <a:xfrm>
            <a:off x="6156360" y="1927080"/>
            <a:ext cx="2987640" cy="158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Ц"/>
          <p:cNvPicPr/>
          <p:nvPr/>
        </p:nvPicPr>
        <p:blipFill>
          <a:blip r:embed="rId2"/>
          <a:stretch/>
        </p:blipFill>
        <p:spPr>
          <a:xfrm>
            <a:off x="1619280" y="1628640"/>
            <a:ext cx="1728720" cy="171468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611280" y="549360"/>
            <a:ext cx="28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Georgia"/>
              </a:rPr>
              <a:t>и =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Georgia"/>
              <a:ea typeface="Georgia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3924360" y="2133720"/>
            <a:ext cx="863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Georgia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Georgia"/>
              <a:ea typeface="Georgia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5653800" y="-316080"/>
            <a:ext cx="74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222160" y="-316080"/>
            <a:ext cx="74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3"/>
          <p:cNvSpPr txBox="1"/>
          <p:nvPr/>
        </p:nvSpPr>
        <p:spPr>
          <a:xfrm>
            <a:off x="900000" y="5229360"/>
            <a:ext cx="763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лест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64" name="Picture 2" descr="C:\Documents and Settings\Игорь\Мои документы\Картинки\Прозрачные\Прозрачный фон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-66600" y="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Игорь\Мои документы\Картинки\Прозрачные\Прозрачный фон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680" y="152280"/>
            <a:ext cx="10666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772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гический квадрат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это квадратные таблицы чисел, имеющие одинаковые суммы по всем строкам, столбцам и диагонал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t0.gstatic.com/images?q=tbn:ANd9GcQ75KsFPfJRnBYqtv4YQQWXChx4P1ma3lO0P2J5N1o3Swp-vrlz"/>
          <p:cNvPicPr/>
          <p:nvPr/>
        </p:nvPicPr>
        <p:blipFill>
          <a:blip r:embed="rId1"/>
          <a:stretch/>
        </p:blipFill>
        <p:spPr>
          <a:xfrm>
            <a:off x="6215040" y="2428920"/>
            <a:ext cx="264312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гические квадра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Заголовок 8"/>
          <p:cNvGrpSpPr/>
          <p:nvPr/>
        </p:nvGrpSpPr>
        <p:grpSpPr>
          <a:xfrm>
            <a:off x="755640" y="146160"/>
            <a:ext cx="8163000" cy="1457280"/>
            <a:chOff x="755640" y="146160"/>
            <a:chExt cx="8163000" cy="1457280"/>
          </a:xfrm>
        </p:grpSpPr>
        <p:pic>
          <p:nvPicPr>
            <p:cNvPr id="70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755640" y="146160"/>
              <a:ext cx="81630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14400" y="304920"/>
              <a:ext cx="7848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Arial"/>
                </a:rPr>
                <a:t>Магические квадрат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2"/>
          <p:cNvSpPr/>
          <p:nvPr/>
        </p:nvSpPr>
        <p:spPr>
          <a:xfrm>
            <a:off x="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85800" y="1676520"/>
            <a:ext cx="52243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явились квадраты в глубокой древности в Кита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 назван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Магические квадраты»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ни получили от арабов, которые видели в этом нечто чудесное и мистическое и считали их талисма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t0.gstatic.com/images?q=tbn:ANd9GcQbyMsIWc4ooKA-b171SVx6WCMzQ9Ymx461J2ipXOpd56qZ_NLWfw"/>
          <p:cNvPicPr/>
          <p:nvPr/>
        </p:nvPicPr>
        <p:blipFill>
          <a:blip r:embed="rId2"/>
          <a:stretch/>
        </p:blipFill>
        <p:spPr>
          <a:xfrm>
            <a:off x="6143760" y="2286000"/>
            <a:ext cx="278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арианты ша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04920" y="730080"/>
            <a:ext cx="43434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Рус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Международны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Алтай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Унифицированны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Бразиль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анад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 Английские шашки (чекер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Пул (С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Итальян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 Испан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 Турец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 Подд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 Столбовы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 Ставрополь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 Диагональные ша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Безымянныйха"/>
          <p:cNvPicPr/>
          <p:nvPr/>
        </p:nvPicPr>
        <p:blipFill>
          <a:blip r:embed="rId1"/>
          <a:stretch/>
        </p:blipFill>
        <p:spPr>
          <a:xfrm>
            <a:off x="4441680" y="914400"/>
            <a:ext cx="457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Работа с пословицами и поговорк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Лучше ……  раз увидеть, чем …….. раз услыш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…………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. голова хорошо, а ….. луч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………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.. раз отмерь, …… раз отреж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048120" y="1752480"/>
            <a:ext cx="14475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2362320" y="2438280"/>
            <a:ext cx="14475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295280" y="3200400"/>
            <a:ext cx="2286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762120" y="3962520"/>
            <a:ext cx="12952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1219320" y="4724280"/>
            <a:ext cx="198108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6781680" y="4724280"/>
            <a:ext cx="14479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11-02T18:25:5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